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D2B2-AFF2-4EA0-8A60-A2DFDAF7C8D0}" type="slidenum">
              <a:rPr b="0" lang="en-GB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ER +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fic Rules for being considered Li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living things N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lter – a place to l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– whether they eat or make it themse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– H2O without hydration you will d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– O2 whether you breath or get it out of water you will die without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– Organized by Cell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are made of one or more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– Responds to Stimul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have to react to the outsid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– Develop and G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have to get bigger and develop into a more complex be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– Energy /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a living animal you get your energy from eat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a living plant you make your energy from a process called photosyn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– Reprodu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have to be able to make copies of y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A – Adapt to Environ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must be able to change to the outsid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ER +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be living you must be able to do all of these things by yourself. If you don’t do all those things you are not alive according to sci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he following things AL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ing vs. Non-Li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ing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perform all of the activities of    ORDER +A at the curren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Living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– you were once able to perform all the activities of ORDER+A but can not n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-Made – you were made by man and could never do ORDER+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ver Alive – you were made by nature and could never do ORDER+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D414-C90D-4488-9D4D-90A745A3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FCE3-AA0E-4112-B4E1-A54DDF79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BBD8-EA6E-45E7-95FA-5466C6309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AF83-070C-4069-A66C-9A413A4A1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36F9-B2EB-490D-BD27-6B524B7C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F46B-7181-494E-9AE6-EA4BE7BE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8194-5A35-4B92-9396-0B78C2B8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BB36-224A-4A17-902D-C409F5FA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81D4-91D7-49C6-A686-46CCB6BA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D40D-63FA-4D9E-ABC5-F6036911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DB54-1A77-4BAB-B9A9-BE7E5A14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4506-E9FE-44AB-9F28-141F63CA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1372-327B-4DB8-866B-15E58A62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44E4-7D28-489F-8B8A-0F173867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2F29-A08D-4882-BF01-3051B366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E525-CACF-49D1-859C-63868B6AF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79E2-2494-4734-8F72-DB6C91C7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B8368-AE54-4AD0-BBFD-AA9F71A7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4BA7C-A7BE-4D4D-A588-E4921D52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8E1B2-258E-46B1-81C4-34DB1A5F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43E65-9AA6-439C-935F-E7FDFA08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25FC1-2684-4C06-B5B9-13472AD4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DEB8-0CE3-4E6C-8515-8509B5CC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5BFC9-145A-43CA-8977-57C26A2E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029A8-B474-4292-9ED0-FBCAAB72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584E3-092B-497F-BEB3-DE0FFDAD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18BC8-80FF-465B-B442-8BAA4427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570E6-41B2-4C49-9B9A-7A083068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93B10-0C8C-4CDD-850A-037E1A77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582CA-B766-4CB5-8DE3-A34C5207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A02A0-9462-4349-AB5D-A2E05BAEA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34030-9FE4-4000-A2AF-0A77AB10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E2716-D053-4246-892B-763599C7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1C40-391F-4597-A468-359884D0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09415-1B11-4DD1-BD0E-ED95F97A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3CD4D-AE76-4092-9EFB-28733343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A5873-C34F-44F8-A7FA-62241C17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41FB5-317C-4564-A57E-88EB2236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A90F0-639D-4DC1-AFC6-7B24E352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CB6B5-C099-4A2C-9168-40FE1856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E2C62-D420-492B-9DB1-100C8882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F880E-DA65-4F33-AA76-44C76CC14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9273C-7892-4374-83FE-BD66910BA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4F73-0FDD-4422-8BFF-2F607345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DF84-1CC0-4DD5-BFF5-A721F10A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5178-CBA9-40B1-A6F0-1C5751D1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1ED6-8F77-48D5-9C62-F68652ED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5E2C-08D2-4482-A8BD-46CDFCB7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01FC-18A0-4D19-86DE-7E3EF05B14D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CD80-9662-4567-A331-8AB725A181D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CE73-F782-4AB5-AC8F-A8CA11B36C7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F528-1543-470A-A823-682DCBD1871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302680" cy="2322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cientific Rules for being considered Liv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ll living things Ne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helter – a place to liv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od – whether they eat or make it themsel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ter – H2O without hydration you will di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ir – O2 whether you breath or get it out of water you will die without 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4" descr="C:\Documents and Settings\ZakemJ\Local Settings\Temporary Internet Files\Content.IE5\GDIJKLMN\MPj04437780000[1].jpg"/>
          <p:cNvPicPr/>
          <p:nvPr/>
        </p:nvPicPr>
        <p:blipFill>
          <a:blip r:embed="rId1"/>
          <a:stretch/>
        </p:blipFill>
        <p:spPr>
          <a:xfrm>
            <a:off x="5715000" y="1143000"/>
            <a:ext cx="1974960" cy="1322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C:\Documents and Settings\ZakemJ\Local Settings\Temporary Internet Files\Content.IE5\OLQNSPQV\MPj04226920000[1].jpg"/>
          <p:cNvPicPr/>
          <p:nvPr/>
        </p:nvPicPr>
        <p:blipFill>
          <a:blip r:embed="rId2"/>
          <a:stretch/>
        </p:blipFill>
        <p:spPr>
          <a:xfrm>
            <a:off x="7658280" y="1066680"/>
            <a:ext cx="1485720" cy="19814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C:\Documents and Settings\ZakemJ\Local Settings\Temporary Internet Files\Content.IE5\G5IJG9QZ\MPj04442250000[1].jpg"/>
          <p:cNvPicPr/>
          <p:nvPr/>
        </p:nvPicPr>
        <p:blipFill>
          <a:blip r:embed="rId3"/>
          <a:stretch/>
        </p:blipFill>
        <p:spPr>
          <a:xfrm>
            <a:off x="457200" y="4267080"/>
            <a:ext cx="2895480" cy="19274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C:\Documents and Settings\ZakemJ\Local Settings\Temporary Internet Files\Content.IE5\89A7CDEF\MPj04222740000[1].jpg"/>
          <p:cNvPicPr/>
          <p:nvPr/>
        </p:nvPicPr>
        <p:blipFill>
          <a:blip r:embed="rId4"/>
          <a:stretch/>
        </p:blipFill>
        <p:spPr>
          <a:xfrm>
            <a:off x="3733920" y="3962520"/>
            <a:ext cx="2590560" cy="2590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C:\Documents and Settings\ZakemJ\Local Settings\Temporary Internet Files\Content.IE5\G5IJG9QZ\MPj03876970000[1].jpg"/>
          <p:cNvPicPr/>
          <p:nvPr/>
        </p:nvPicPr>
        <p:blipFill>
          <a:blip r:embed="rId5"/>
          <a:stretch/>
        </p:blipFill>
        <p:spPr>
          <a:xfrm>
            <a:off x="6705720" y="4419720"/>
            <a:ext cx="205560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 – Organized by Cells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are made of one or more cell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3" descr="C:\Documents and Settings\ZakemJ\Local Settings\Temporary Internet Files\Content.IE5\GDIJKLMN\MPj04387380000[1].jpg"/>
          <p:cNvPicPr/>
          <p:nvPr/>
        </p:nvPicPr>
        <p:blipFill>
          <a:blip r:embed="rId1"/>
          <a:stretch/>
        </p:blipFill>
        <p:spPr>
          <a:xfrm>
            <a:off x="304920" y="274320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C:\Documents and Settings\ZakemJ\Local Settings\Temporary Internet Files\Content.IE5\89A7CDEF\MPj04331490000[1].jpg"/>
          <p:cNvPicPr/>
          <p:nvPr/>
        </p:nvPicPr>
        <p:blipFill>
          <a:blip r:embed="rId2"/>
          <a:stretch/>
        </p:blipFill>
        <p:spPr>
          <a:xfrm>
            <a:off x="3124080" y="3200400"/>
            <a:ext cx="2133720" cy="1422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C:\Documents and Settings\ZakemJ\Local Settings\Temporary Internet Files\Content.IE5\89A7CDEF\MPj04330590000[1].jpg"/>
          <p:cNvPicPr/>
          <p:nvPr/>
        </p:nvPicPr>
        <p:blipFill>
          <a:blip r:embed="rId3"/>
          <a:stretch/>
        </p:blipFill>
        <p:spPr>
          <a:xfrm>
            <a:off x="6172200" y="2743200"/>
            <a:ext cx="2362320" cy="1735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C:\Documents and Settings\ZakemJ\Local Settings\Temporary Internet Files\Content.IE5\OLQNSPQV\MPj04389220000[1].jpg"/>
          <p:cNvPicPr/>
          <p:nvPr/>
        </p:nvPicPr>
        <p:blipFill>
          <a:blip r:embed="rId4"/>
          <a:stretch/>
        </p:blipFill>
        <p:spPr>
          <a:xfrm>
            <a:off x="3352680" y="4724280"/>
            <a:ext cx="1830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 – Responds to Stimuli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have to react to the outside world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3" descr="C:\Documents and Settings\ZakemJ\Local Settings\Temporary Internet Files\Content.IE5\89A7CDEF\MPj04243780000[1].jpg"/>
          <p:cNvPicPr/>
          <p:nvPr/>
        </p:nvPicPr>
        <p:blipFill>
          <a:blip r:embed="rId1"/>
          <a:stretch/>
        </p:blipFill>
        <p:spPr>
          <a:xfrm>
            <a:off x="304920" y="37339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C:\Documents and Settings\ZakemJ\Local Settings\Temporary Internet Files\Content.IE5\G5IJG9QZ\MPj04392970000[1].jpg"/>
          <p:cNvPicPr/>
          <p:nvPr/>
        </p:nvPicPr>
        <p:blipFill>
          <a:blip r:embed="rId2"/>
          <a:stretch/>
        </p:blipFill>
        <p:spPr>
          <a:xfrm>
            <a:off x="3352680" y="3429000"/>
            <a:ext cx="2286000" cy="3067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C:\Documents and Settings\ZakemJ\Local Settings\Temporary Internet Files\Content.IE5\G5IJG9QZ\MPj04442520000[1].jpg"/>
          <p:cNvPicPr/>
          <p:nvPr/>
        </p:nvPicPr>
        <p:blipFill>
          <a:blip r:embed="rId3"/>
          <a:stretch/>
        </p:blipFill>
        <p:spPr>
          <a:xfrm>
            <a:off x="5867280" y="3962520"/>
            <a:ext cx="28908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 – Develop and Gro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have to get bigger and develop into a more complex be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2" descr="C:\Documents and Settings\ZakemJ\Local Settings\Temporary Internet Files\Content.IE5\OLQNSPQV\MPj04441630000[1].jpg"/>
          <p:cNvPicPr/>
          <p:nvPr/>
        </p:nvPicPr>
        <p:blipFill>
          <a:blip r:embed="rId1"/>
          <a:stretch/>
        </p:blipFill>
        <p:spPr>
          <a:xfrm>
            <a:off x="228600" y="3200400"/>
            <a:ext cx="1295280" cy="1523880"/>
          </a:xfrm>
          <a:prstGeom prst="rect">
            <a:avLst/>
          </a:prstGeom>
          <a:ln w="0">
            <a:noFill/>
          </a:ln>
        </p:spPr>
      </p:pic>
      <p:cxnSp>
        <p:nvCxnSpPr>
          <p:cNvPr id="218" name="Straight Arrow Connector 5"/>
          <p:cNvCxnSpPr/>
          <p:nvPr/>
        </p:nvCxnSpPr>
        <p:spPr>
          <a:xfrm>
            <a:off x="1523880" y="3962520"/>
            <a:ext cx="99144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19" name="Picture 3" descr="C:\Documents and Settings\ZakemJ\Local Settings\Temporary Internet Files\Content.IE5\89A7CDEF\MPj04464860000[1].jpg"/>
          <p:cNvPicPr/>
          <p:nvPr/>
        </p:nvPicPr>
        <p:blipFill>
          <a:blip r:embed="rId2"/>
          <a:stretch/>
        </p:blipFill>
        <p:spPr>
          <a:xfrm>
            <a:off x="2590920" y="3276720"/>
            <a:ext cx="1066680" cy="1600200"/>
          </a:xfrm>
          <a:prstGeom prst="rect">
            <a:avLst/>
          </a:prstGeom>
          <a:ln w="0">
            <a:noFill/>
          </a:ln>
        </p:spPr>
      </p:pic>
      <p:cxnSp>
        <p:nvCxnSpPr>
          <p:cNvPr id="220" name="Straight Arrow Connector 7"/>
          <p:cNvCxnSpPr/>
          <p:nvPr/>
        </p:nvCxnSpPr>
        <p:spPr>
          <a:xfrm>
            <a:off x="3657600" y="3962520"/>
            <a:ext cx="99144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21" name="Picture 5" descr="C:\Documents and Settings\ZakemJ\Local Settings\Temporary Internet Files\Content.IE5\GDIJKLMN\MPj04438980000[1].jpg"/>
          <p:cNvPicPr/>
          <p:nvPr/>
        </p:nvPicPr>
        <p:blipFill>
          <a:blip r:embed="rId3"/>
          <a:stretch/>
        </p:blipFill>
        <p:spPr>
          <a:xfrm>
            <a:off x="4648320" y="3276720"/>
            <a:ext cx="1284120" cy="1600200"/>
          </a:xfrm>
          <a:prstGeom prst="rect">
            <a:avLst/>
          </a:prstGeom>
          <a:ln w="0">
            <a:noFill/>
          </a:ln>
        </p:spPr>
      </p:pic>
      <p:cxnSp>
        <p:nvCxnSpPr>
          <p:cNvPr id="222" name="Straight Arrow Connector 10"/>
          <p:cNvCxnSpPr/>
          <p:nvPr/>
        </p:nvCxnSpPr>
        <p:spPr>
          <a:xfrm>
            <a:off x="6019560" y="3962520"/>
            <a:ext cx="99108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23" name="Picture 2" descr="C:\Documents and Settings\ZakemJ\Local Settings\Temporary Internet Files\Content.IE5\OLQNSPQV\MPj04464570000[1].jpg"/>
          <p:cNvPicPr/>
          <p:nvPr/>
        </p:nvPicPr>
        <p:blipFill>
          <a:blip r:embed="rId4"/>
          <a:stretch/>
        </p:blipFill>
        <p:spPr>
          <a:xfrm>
            <a:off x="7162920" y="3276720"/>
            <a:ext cx="1269720" cy="1676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C:\Documents and Settings\ZakemJ\Local Settings\Temporary Internet Files\Content.IE5\89A7CDEF\MPj04426700000[1].jpg"/>
          <p:cNvPicPr/>
          <p:nvPr/>
        </p:nvPicPr>
        <p:blipFill>
          <a:blip r:embed="rId5"/>
          <a:stretch/>
        </p:blipFill>
        <p:spPr>
          <a:xfrm>
            <a:off x="228600" y="5181480"/>
            <a:ext cx="1066680" cy="1422360"/>
          </a:xfrm>
          <a:prstGeom prst="rect">
            <a:avLst/>
          </a:prstGeom>
          <a:ln w="0">
            <a:noFill/>
          </a:ln>
        </p:spPr>
      </p:pic>
      <p:cxnSp>
        <p:nvCxnSpPr>
          <p:cNvPr id="225" name="Straight Arrow Connector 11"/>
          <p:cNvCxnSpPr/>
          <p:nvPr/>
        </p:nvCxnSpPr>
        <p:spPr>
          <a:xfrm>
            <a:off x="1295280" y="5791320"/>
            <a:ext cx="99144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26" name="Picture 4" descr="C:\Documents and Settings\ZakemJ\Local Settings\Temporary Internet Files\Content.IE5\89A7CDEF\MPj04385240000[1].jpg"/>
          <p:cNvPicPr/>
          <p:nvPr/>
        </p:nvPicPr>
        <p:blipFill>
          <a:blip r:embed="rId6"/>
          <a:stretch/>
        </p:blipFill>
        <p:spPr>
          <a:xfrm>
            <a:off x="2286000" y="5181480"/>
            <a:ext cx="2133720" cy="1409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C:\Documents and Settings\ZakemJ\Local Settings\Temporary Internet Files\Content.IE5\G5IJG9QZ\MPj04386010000[1].jpg"/>
          <p:cNvPicPr/>
          <p:nvPr/>
        </p:nvPicPr>
        <p:blipFill>
          <a:blip r:embed="rId7"/>
          <a:stretch/>
        </p:blipFill>
        <p:spPr>
          <a:xfrm>
            <a:off x="5486400" y="5181480"/>
            <a:ext cx="2209680" cy="1467000"/>
          </a:xfrm>
          <a:prstGeom prst="rect">
            <a:avLst/>
          </a:prstGeom>
          <a:ln w="0">
            <a:noFill/>
          </a:ln>
        </p:spPr>
      </p:pic>
      <p:cxnSp>
        <p:nvCxnSpPr>
          <p:cNvPr id="228" name="Straight Arrow Connector 15"/>
          <p:cNvCxnSpPr/>
          <p:nvPr/>
        </p:nvCxnSpPr>
        <p:spPr>
          <a:xfrm>
            <a:off x="4190760" y="5943600"/>
            <a:ext cx="99108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 – Energy /E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you are a living animal you get your energy from eating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you are a living plant you make your energy from a process called photosynth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2" descr="C:\Documents and Settings\ZakemJ\Local Settings\Temporary Internet Files\Content.IE5\G5IJG9QZ\MPj04395760000[1].jpg"/>
          <p:cNvPicPr/>
          <p:nvPr/>
        </p:nvPicPr>
        <p:blipFill>
          <a:blip r:embed="rId1"/>
          <a:stretch/>
        </p:blipFill>
        <p:spPr>
          <a:xfrm>
            <a:off x="990720" y="3581280"/>
            <a:ext cx="2286000" cy="2159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C:\Documents and Settings\ZakemJ\Local Settings\Temporary Internet Files\Content.IE5\89A7CDEF\MPj04373010000[1].jpg"/>
          <p:cNvPicPr/>
          <p:nvPr/>
        </p:nvPicPr>
        <p:blipFill>
          <a:blip r:embed="rId2"/>
          <a:stretch/>
        </p:blipFill>
        <p:spPr>
          <a:xfrm>
            <a:off x="5943600" y="3733920"/>
            <a:ext cx="17812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 – Reproduce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have to be able to make copies of yourself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Picture 2" descr="C:\Documents and Settings\ZakemJ\Local Settings\Temporary Internet Files\Content.IE5\89A7CDEF\MPj04477710000[1].jpg"/>
          <p:cNvPicPr/>
          <p:nvPr/>
        </p:nvPicPr>
        <p:blipFill>
          <a:blip r:embed="rId1"/>
          <a:stretch/>
        </p:blipFill>
        <p:spPr>
          <a:xfrm>
            <a:off x="609480" y="2590920"/>
            <a:ext cx="2845080" cy="1898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C:\Documents and Settings\ZakemJ\Local Settings\Temporary Internet Files\Content.IE5\GDIJKLMN\MPj04464650000[1].jpg"/>
          <p:cNvPicPr/>
          <p:nvPr/>
        </p:nvPicPr>
        <p:blipFill>
          <a:blip r:embed="rId2"/>
          <a:stretch/>
        </p:blipFill>
        <p:spPr>
          <a:xfrm>
            <a:off x="3733920" y="2438280"/>
            <a:ext cx="2862000" cy="23180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C:\Documents and Settings\ZakemJ\Local Settings\Temporary Internet Files\Content.IE5\G5IJG9QZ\MPj04465820000[1].jpg"/>
          <p:cNvPicPr/>
          <p:nvPr/>
        </p:nvPicPr>
        <p:blipFill>
          <a:blip r:embed="rId3"/>
          <a:stretch/>
        </p:blipFill>
        <p:spPr>
          <a:xfrm>
            <a:off x="6858000" y="2590920"/>
            <a:ext cx="1947960" cy="2514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C:\Documents and Settings\ZakemJ\Local Settings\Temporary Internet Files\Content.IE5\89A7CDEF\MPj04478020000[1].jpg"/>
          <p:cNvPicPr/>
          <p:nvPr/>
        </p:nvPicPr>
        <p:blipFill>
          <a:blip r:embed="rId4"/>
          <a:stretch/>
        </p:blipFill>
        <p:spPr>
          <a:xfrm>
            <a:off x="685800" y="4648320"/>
            <a:ext cx="274320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+A – Adapt to Environment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must be able to change to the outside world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4" descr="C:\Documents and Settings\ZakemJ\Local Settings\Temporary Internet Files\Content.IE5\OLQNSPQV\MPj04442440000[1].jpg"/>
          <p:cNvPicPr/>
          <p:nvPr/>
        </p:nvPicPr>
        <p:blipFill>
          <a:blip r:embed="rId1"/>
          <a:stretch/>
        </p:blipFill>
        <p:spPr>
          <a:xfrm>
            <a:off x="3200400" y="3809880"/>
            <a:ext cx="1725480" cy="25844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Documents and Settings\ZakemJ\Local Settings\Temporary Internet Files\Content.IE5\89A7CDEF\MPj04438300000[1].jpg"/>
          <p:cNvPicPr/>
          <p:nvPr/>
        </p:nvPicPr>
        <p:blipFill>
          <a:blip r:embed="rId2"/>
          <a:stretch/>
        </p:blipFill>
        <p:spPr>
          <a:xfrm>
            <a:off x="5943600" y="3200400"/>
            <a:ext cx="2155680" cy="3230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C:\Documents and Settings\ZakemJ\Local Settings\Temporary Internet Files\Content.IE5\GDIJKLMN\MPj03169020000[1].jpg"/>
          <p:cNvPicPr/>
          <p:nvPr/>
        </p:nvPicPr>
        <p:blipFill>
          <a:blip r:embed="rId3"/>
          <a:stretch/>
        </p:blipFill>
        <p:spPr>
          <a:xfrm>
            <a:off x="887400" y="3505320"/>
            <a:ext cx="2071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RDER +A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294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o be living you must be able to do all of these things by yourself. If you don’t do all those things you are not alive according to scienc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re the following things ALIV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3" descr="C:\Documents and Settings\ZakemJ\Local Settings\Temporary Internet Files\Content.IE5\OLQNSPQV\MPj04392920000[1].jpg"/>
          <p:cNvPicPr/>
          <p:nvPr/>
        </p:nvPicPr>
        <p:blipFill>
          <a:blip r:embed="rId1"/>
          <a:stretch/>
        </p:blipFill>
        <p:spPr>
          <a:xfrm>
            <a:off x="762120" y="3276720"/>
            <a:ext cx="2476440" cy="16588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C:\Documents and Settings\ZakemJ\Local Settings\Temporary Internet Files\Content.IE5\GDIJKLMN\MPj04425000000[1].jpg"/>
          <p:cNvPicPr/>
          <p:nvPr/>
        </p:nvPicPr>
        <p:blipFill>
          <a:blip r:embed="rId2"/>
          <a:stretch/>
        </p:blipFill>
        <p:spPr>
          <a:xfrm>
            <a:off x="3352680" y="3276720"/>
            <a:ext cx="2514600" cy="1676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C:\Documents and Settings\ZakemJ\Local Settings\Temporary Internet Files\Content.IE5\G5IJG9QZ\MPj04439020000[1].jpg"/>
          <p:cNvPicPr/>
          <p:nvPr/>
        </p:nvPicPr>
        <p:blipFill>
          <a:blip r:embed="rId3"/>
          <a:stretch/>
        </p:blipFill>
        <p:spPr>
          <a:xfrm>
            <a:off x="6172200" y="3276720"/>
            <a:ext cx="2217600" cy="1476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C:\Documents and Settings\ZakemJ\Local Settings\Temporary Internet Files\Content.IE5\89A7CDEF\MPj04478830000[1].jpg"/>
          <p:cNvPicPr/>
          <p:nvPr/>
        </p:nvPicPr>
        <p:blipFill>
          <a:blip r:embed="rId4"/>
          <a:stretch/>
        </p:blipFill>
        <p:spPr>
          <a:xfrm>
            <a:off x="762120" y="5029200"/>
            <a:ext cx="2463840" cy="1644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C:\Documents and Settings\ZakemJ\Local Settings\Temporary Internet Files\Content.IE5\89A7CDEF\MPj04478070000[1].jpg"/>
          <p:cNvPicPr/>
          <p:nvPr/>
        </p:nvPicPr>
        <p:blipFill>
          <a:blip r:embed="rId5"/>
          <a:stretch/>
        </p:blipFill>
        <p:spPr>
          <a:xfrm>
            <a:off x="5791320" y="5105520"/>
            <a:ext cx="231444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ving vs. Non-Liv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523520"/>
            <a:ext cx="23623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ving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You can perform all of the activities of    ORDER +A at the current tim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4832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n-Living –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ad – you were once able to perform all the activities of ORDER+A but can not now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-Made – you were made by man and could never do ORDER+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ever Alive – you were made by nature and could never do ORDER+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3" descr="C:\Documents and Settings\ZakemJ\Local Settings\Temporary Internet Files\Content.IE5\OLQNSPQV\MPj04364260000[1].jpg"/>
          <p:cNvPicPr/>
          <p:nvPr/>
        </p:nvPicPr>
        <p:blipFill>
          <a:blip r:embed="rId1"/>
          <a:stretch/>
        </p:blipFill>
        <p:spPr>
          <a:xfrm>
            <a:off x="7467480" y="0"/>
            <a:ext cx="1487520" cy="1981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C:\Documents and Settings\ZakemJ\Local Settings\Temporary Internet Files\Content.IE5\G5IJG9QZ\MPj04387360000[1].jpg"/>
          <p:cNvPicPr/>
          <p:nvPr/>
        </p:nvPicPr>
        <p:blipFill>
          <a:blip r:embed="rId2"/>
          <a:stretch/>
        </p:blipFill>
        <p:spPr>
          <a:xfrm>
            <a:off x="3048120" y="2971800"/>
            <a:ext cx="2006640" cy="15048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C:\Documents and Settings\ZakemJ\Local Settings\Temporary Internet Files\Content.IE5\89A7CDEF\MPj04477360000[1].jpg"/>
          <p:cNvPicPr/>
          <p:nvPr/>
        </p:nvPicPr>
        <p:blipFill>
          <a:blip r:embed="rId3"/>
          <a:stretch/>
        </p:blipFill>
        <p:spPr>
          <a:xfrm>
            <a:off x="3581280" y="4572000"/>
            <a:ext cx="1525680" cy="2286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C:\Documents and Settings\ZakemJ\Local Settings\Temporary Internet Files\Content.IE5\89A7CDEF\MPj04464710000[1].jpg"/>
          <p:cNvPicPr/>
          <p:nvPr/>
        </p:nvPicPr>
        <p:blipFill>
          <a:blip r:embed="rId4"/>
          <a:stretch/>
        </p:blipFill>
        <p:spPr>
          <a:xfrm>
            <a:off x="685800" y="4952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16:20:51Z</dcterms:created>
  <dc:creator>CCSD</dc:creator>
  <dc:description/>
  <cp:keywords>Characterisitcs of Life</cp:keywords>
  <dc:language>en-US</dc:language>
  <cp:lastModifiedBy>RomaK</cp:lastModifiedBy>
  <dcterms:modified xsi:type="dcterms:W3CDTF">2015-09-04T10:51:53Z</dcterms:modified>
  <cp:revision>16</cp:revision>
  <dc:subject>Characterisitcs of Life</dc:subject>
  <dc:title>Characterisitcs of Life</dc:title>
</cp:coreProperties>
</file>